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B73-257C-45F5-87C1-D592B7FB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869-9CF4-4985-8CC4-10CA6296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5F0-D6EF-487D-86D1-B0914AA9F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40B-AA3D-4DA5-B37D-5A7503CC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CE2-EB1B-47E7-9B5E-AB2A1AE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1D2-A04D-4539-BB3A-92BE3112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6D1-823C-4892-8756-18CBEC09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6D2-2B8F-4BEE-96CC-B654B513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64B2-10AE-4783-823E-9E611D81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9C62-CED8-4B13-A680-C60F372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911-57F0-4821-A583-16C3DE3A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E9B-5A2E-4B54-9B45-191EEE50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9ACD-6176-49FF-974A-A82CD2F21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slide15.xml"/><Relationship Id="rId10" Type="http://schemas.openxmlformats.org/officeDocument/2006/relationships/slide" Target=""/><Relationship Id="rId11" Type="http://schemas.openxmlformats.org/officeDocument/2006/relationships/slide" Target="slide16.xml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11.xml"/><Relationship Id="rId17" Type="http://schemas.openxmlformats.org/officeDocument/2006/relationships/slide" Target=""/><Relationship Id="rId18" Type="http://schemas.openxmlformats.org/officeDocument/2006/relationships/slide" Target="slide12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slide7.xml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slide19.xml"/><Relationship Id="rId27" Type="http://schemas.openxmlformats.org/officeDocument/2006/relationships/slide" Target=""/><Relationship Id="rId28" Type="http://schemas.openxmlformats.org/officeDocument/2006/relationships/slide" Target="slide20.xml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9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0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1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4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5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7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4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5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9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0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Iris Praid</cp:lastModifiedBy>
  <cp:lastPrinted>2001-01-31T16:21:13Z</cp:lastPrinted>
  <dcterms:modified xsi:type="dcterms:W3CDTF">2008-01-03T19:53:18Z</dcterms:modified>
  <cp:revision>60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